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26D-6674-43DA-896C-858E60A7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784-0ED8-47F7-977D-7D13532D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CE3-2787-40A8-95CB-07FC0094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906-9E8D-4D4D-98CD-06D089BC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4236-409B-4CC1-BAB6-0644B653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C13-0ED3-4653-8026-17AB2700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CD75-8D7F-4AEE-AAD6-1AC97119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F931-3D3A-4E7E-8DF0-13EB5CD1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743C-2A18-45E6-AEA4-9C4CC7C3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F28C-5F62-4293-8A46-D163ECA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8BF9-A45F-43A3-B5EB-93E959EE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7C2-D0C3-4C37-A91A-AA0F37E8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31D-88F9-4F9F-804A-7F35281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9D9-1196-436D-AE1F-2E5DB93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16C8-FEB8-44BE-BB0B-E7A9B146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021D-F8BD-4490-AA19-26D3EAB8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2089-2A21-4DF2-8FC0-D1E72935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DEB37-343F-4FD6-9798-610C7C43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B902F-EF7D-49A9-BEEC-C4AFC203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AFD3E-9D5E-48F7-BC1D-9E30082E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674C1-9069-432F-8382-153F43F4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62CD8-9AB9-4E12-B2C1-9205F08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E0C-3E7C-40EF-9289-66A27850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4043B-A085-49A9-942B-5A96DCA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77FA7-8D58-4EE9-A262-CD4206DF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034E3-6651-471D-8207-6FD4A78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C90E4-BA8A-4325-BADE-FCFF18BB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74BDD-2043-4638-9D2A-91410F26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DF7A4-D315-47EA-928B-35A9BEFE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76DFD-6EE6-4918-8E5E-D2374288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27229-4CB9-44F4-B531-650C0414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5B3AF-9ADF-4251-AA83-80ABDD50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D9E55-6DF8-4DCB-8CEF-92219BAB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EBC-5925-4C50-B472-CF38ACA9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44F12-CFC3-45C8-9679-C834DAAC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6453E-03AA-4577-862F-D0D14A3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557CD-62B0-4D26-82E6-11163D93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01882-060B-464F-A13A-668C21CF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EE415-A439-421D-9E9E-7FCD172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C47A0-993D-4A7A-ACB4-161F5C3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83806-3FC8-4FCC-BEF8-A3AB553F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D7B06-8B6C-4302-89A4-279027F2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D41FF-527A-4A94-A396-8C4ED883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40E44-51F8-4C4D-BE3A-5BA6813F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A5C-9C91-4FD9-8B00-8885450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F032E-E6D7-4585-B040-EDFC59E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F043A-25A0-489A-905C-B5A6E556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5900A-1C5E-4D05-9AD3-EBCFBCE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A8174-A887-4402-B570-E5BFAA2A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26DB5-FA24-4E81-82BC-0825E925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2C5B3-AC9E-472B-A707-B293807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D3943-BC01-4CE7-8527-C6E979E6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BB00E-436F-4398-9791-BE0836AE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53851-8446-45E5-87E1-A36CCC5F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83212-9B20-493F-9308-5875F3BC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E3F-C36E-4FF7-9382-AE100099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1A4C2-C089-4E93-962E-A2951784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20215-8100-489E-8E81-215B2554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A5AF-95C7-4315-B9C5-93813047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8A259-E851-4DDB-A4BF-7D2652C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149F-B9CE-4A06-87BA-C4B10AEA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A4C4-B268-496B-9D34-09079C64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23B2-1E66-402C-80CF-986C0D4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AF67-AA61-439E-9B98-4674155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71E4-D1B0-464F-966D-31051C8B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79A1-DA33-4D3B-A000-FD57BCF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397-0841-4169-A682-559D138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8002-085F-45E4-ACDD-24C69B10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67C12-DD86-4584-BC0D-242B3362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F1284-A494-4E11-AE53-CDB93388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FD2FC-8ED9-4400-85DE-711A8741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26382-F2EE-41DF-A428-91F649CC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1B050-8CF4-44FD-BB47-8B2E5E65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C76CA-7DD1-4BF7-A753-2B5CF296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0BC5D-8FE4-4024-B817-5D0086C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A4EF7-A3C9-45EB-9858-F5298D46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AFAB6-0A44-4880-8247-7462B78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E86-AC26-42EB-BE13-D08DA06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2B9C1-32C7-4EB2-A1A7-61B0AB0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0346C-ACD2-4ACB-8422-280413E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CB3E8-3C5E-46E8-B1AE-F94AC777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26753-B49B-40C2-BAAF-D61AD59A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166B2-98ED-4100-BFAF-3F3D37E1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559C3-967F-4BB3-8AF8-0FD90659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A40A-EF7E-45B8-B124-989E2289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4BEBA-0855-4915-8934-E1DC2E1B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9C367-23C5-4004-B553-A509BE8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AEEDE-9BC9-4AD8-96A9-706DEF14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7AD-7091-4424-947F-B4D6EBD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4963D-8C93-4AAC-971B-4266BF3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DC28-29C0-4320-9A48-4CA5B20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5671-9B8F-4BF1-B447-01AEEA9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0C4A-08D2-472A-96F3-D27D376C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11E4C-B51F-48CC-AD23-9A4DDCD8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9940F-E7DD-4517-A02E-FE6D6DC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09CE4-F294-4B4B-9ED8-7A3C561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5B2-5D0B-4836-A51B-BB1F8BCD564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173-A29B-4665-90B7-E1E9B69EF882}" type="slidenum">
              <a:rPr b="1" lang="fr-F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E9A-9083-4CA5-AD80-6486B2C26CE2}" type="slidenum"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9271-CA72-4C70-A24E-02C9110BE9A8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7D0-1B07-4C0B-AD02-B952AA23EF2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A39-94C5-4AEC-BDF5-1801EA475AB8}" type="slidenum">
              <a:rPr b="1" lang="fr-F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B5BC-BEEC-4481-9983-1DDF3CC60E30}" type="slidenum"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EFFB-9DB0-4572-BF95-ADE349194F9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24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800" spc="-1" strike="noStrike">
                <a:solidFill>
                  <a:srgbClr val="ffff00"/>
                </a:solidFill>
                <a:latin typeface="Tw Cen MT"/>
              </a:rPr>
              <a:t>17 SITUATIONS CONCERNÉES PAR </a:t>
            </a:r>
            <a:br>
              <a:rPr sz="4800"/>
            </a:br>
            <a:r>
              <a:rPr b="0" lang="fr-FR" sz="4800" spc="-1" strike="noStrike">
                <a:solidFill>
                  <a:srgbClr val="ffff00"/>
                </a:solidFill>
                <a:latin typeface="Tw Cen MT"/>
              </a:rPr>
              <a:t>LES SAVOIRS RÉDACTIONNELS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6" name="ZoneTexte 2"/>
          <p:cNvSpPr/>
          <p:nvPr/>
        </p:nvSpPr>
        <p:spPr>
          <a:xfrm>
            <a:off x="2411280" y="609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 Giacometti IEN Economie-Ge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Image 3" descr="logo ac.bmp"/>
          <p:cNvPicPr/>
          <p:nvPr/>
        </p:nvPicPr>
        <p:blipFill>
          <a:blip r:embed="rId1"/>
          <a:stretch/>
        </p:blipFill>
        <p:spPr>
          <a:xfrm>
            <a:off x="0" y="0"/>
            <a:ext cx="227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1536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000"/>
                </a:solidFill>
                <a:latin typeface="Tw Cen MT"/>
              </a:rPr>
              <a:t>Professeu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7" name="Diagramme 4" descr=""/>
          <p:cNvPicPr/>
          <p:nvPr/>
        </p:nvPicPr>
        <p:blipFill>
          <a:blip r:embed="rId1"/>
          <a:stretch/>
        </p:blipFill>
        <p:spPr>
          <a:xfrm>
            <a:off x="1468440" y="1536840"/>
            <a:ext cx="5267160" cy="2054160"/>
          </a:xfrm>
          <a:prstGeom prst="rect">
            <a:avLst/>
          </a:prstGeom>
          <a:ln w="0">
            <a:noFill/>
          </a:ln>
        </p:spPr>
      </p:pic>
      <p:pic>
        <p:nvPicPr>
          <p:cNvPr id="398" name="Diagramme 5" descr=""/>
          <p:cNvPicPr/>
          <p:nvPr/>
        </p:nvPicPr>
        <p:blipFill>
          <a:blip r:embed="rId2"/>
          <a:stretch/>
        </p:blipFill>
        <p:spPr>
          <a:xfrm>
            <a:off x="-12600" y="3565440"/>
            <a:ext cx="3956040" cy="3299040"/>
          </a:xfrm>
          <a:prstGeom prst="rect">
            <a:avLst/>
          </a:prstGeom>
          <a:ln w="0">
            <a:noFill/>
          </a:ln>
        </p:spPr>
      </p:pic>
      <p:pic>
        <p:nvPicPr>
          <p:cNvPr id="399" name="Diagramme 6" descr=""/>
          <p:cNvPicPr/>
          <p:nvPr/>
        </p:nvPicPr>
        <p:blipFill>
          <a:blip r:embed="rId3"/>
          <a:stretch/>
        </p:blipFill>
        <p:spPr>
          <a:xfrm>
            <a:off x="4559400" y="3565440"/>
            <a:ext cx="4603680" cy="330516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7" descr=""/>
          <p:cNvPicPr/>
          <p:nvPr/>
        </p:nvPicPr>
        <p:blipFill>
          <a:blip r:embed="rId4"/>
          <a:stretch/>
        </p:blipFill>
        <p:spPr>
          <a:xfrm>
            <a:off x="1554120" y="-212760"/>
            <a:ext cx="5548320" cy="1139760"/>
          </a:xfrm>
          <a:prstGeom prst="rect">
            <a:avLst/>
          </a:prstGeom>
          <a:ln w="0">
            <a:noFill/>
          </a:ln>
        </p:spPr>
      </p:pic>
      <p:sp>
        <p:nvSpPr>
          <p:cNvPr id="401" name="Flèche courbée vers la droite 8"/>
          <p:cNvSpPr/>
          <p:nvPr/>
        </p:nvSpPr>
        <p:spPr>
          <a:xfrm rot="2155800">
            <a:off x="-50760" y="1292400"/>
            <a:ext cx="1614600" cy="2409480"/>
          </a:xfrm>
          <a:custGeom>
            <a:avLst/>
            <a:gdLst>
              <a:gd name="textAreaLeft" fmla="*/ 216000 w 1614600"/>
              <a:gd name="textAreaRight" fmla="*/ 1398600 w 1614600"/>
              <a:gd name="textAreaTop" fmla="*/ 451080 h 2409480"/>
              <a:gd name="textAreaBottom" fmla="*/ 1756800 h 24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7" stAng="-5400000" swAng="-5400000"/>
                <a:lnTo>
                  <a:pt x="0" y="11705"/>
                </a:lnTo>
                <a:arcTo wR="21600" hR="8087" stAng="10800000" swAng="-3324405"/>
                <a:lnTo>
                  <a:pt x="16200" y="21343"/>
                </a:lnTo>
                <a:lnTo>
                  <a:pt x="21600" y="17982"/>
                </a:lnTo>
                <a:lnTo>
                  <a:pt x="16200" y="14107"/>
                </a:lnTo>
                <a:lnTo>
                  <a:pt x="16200" y="15916"/>
                </a:lnTo>
                <a:arcTo wR="21600" hR="8087" stAng="7475595" swAng="3029731"/>
                <a:lnTo>
                  <a:pt x="547" y="9896"/>
                </a:lnTo>
                <a:arcTo wR="21600" hR="8087" stAng="-10505326" swAng="5105326"/>
                <a:close/>
              </a:path>
              <a:path fill="darkenLess" w="21600" h="21600">
                <a:moveTo>
                  <a:pt x="21600" y="0"/>
                </a:moveTo>
                <a:arcTo wR="21600" hR="8087" stAng="-5400000" swAng="-5400000"/>
                <a:lnTo>
                  <a:pt x="0" y="8087"/>
                </a:lnTo>
                <a:arcTo wR="21600" hR="8087" stAng="10800000" swAng="-294674"/>
                <a:lnTo>
                  <a:pt x="547" y="9896"/>
                </a:lnTo>
                <a:arcTo wR="21600" hR="8087" stAng="-10505326" swAng="5105326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lèche courbée vers la droite 9"/>
          <p:cNvSpPr/>
          <p:nvPr/>
        </p:nvSpPr>
        <p:spPr>
          <a:xfrm flipH="1" rot="19455000">
            <a:off x="6727320" y="1310760"/>
            <a:ext cx="1413000" cy="2409840"/>
          </a:xfrm>
          <a:custGeom>
            <a:avLst/>
            <a:gdLst>
              <a:gd name="textAreaLeft" fmla="*/ 189000 w 1413000"/>
              <a:gd name="textAreaRight" fmla="*/ 1224000 w 1413000"/>
              <a:gd name="textAreaTop" fmla="*/ 469800 h 2409840"/>
              <a:gd name="textAreaBottom" fmla="*/ 1763280 h 24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6" stAng="-5400000" swAng="-5400000"/>
                <a:lnTo>
                  <a:pt x="0" y="11592"/>
                </a:lnTo>
                <a:arcTo wR="21600" hR="8426" stAng="10800000" swAng="-3389892"/>
                <a:lnTo>
                  <a:pt x="16200" y="21332"/>
                </a:lnTo>
                <a:lnTo>
                  <a:pt x="21600" y="18434"/>
                </a:lnTo>
                <a:lnTo>
                  <a:pt x="16200" y="15000"/>
                </a:lnTo>
                <a:lnTo>
                  <a:pt x="16200" y="16583"/>
                </a:lnTo>
                <a:arcTo wR="21600" hR="8426" stAng="7410108" swAng="3133857"/>
                <a:lnTo>
                  <a:pt x="385" y="10008"/>
                </a:lnTo>
                <a:arcTo wR="21600" hR="8426" stAng="-10543964" swAng="5143964"/>
                <a:close/>
              </a:path>
              <a:path fill="darkenLess" w="21600" h="21600">
                <a:moveTo>
                  <a:pt x="21600" y="0"/>
                </a:moveTo>
                <a:arcTo wR="21600" hR="8426" stAng="-5400000" swAng="-5400000"/>
                <a:lnTo>
                  <a:pt x="0" y="8426"/>
                </a:lnTo>
                <a:arcTo wR="21600" hR="8426" stAng="10800000" swAng="-256036"/>
                <a:lnTo>
                  <a:pt x="385" y="10008"/>
                </a:lnTo>
                <a:arcTo wR="21600" hR="8426" stAng="-10543964" swAng="5143964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Diagramme 4" descr=""/>
          <p:cNvPicPr/>
          <p:nvPr/>
        </p:nvPicPr>
        <p:blipFill>
          <a:blip r:embed="rId1"/>
          <a:stretch/>
        </p:blipFill>
        <p:spPr>
          <a:xfrm>
            <a:off x="1511280" y="1335240"/>
            <a:ext cx="6194520" cy="414468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5"/>
          <p:cNvSpPr/>
          <p:nvPr/>
        </p:nvSpPr>
        <p:spPr>
          <a:xfrm>
            <a:off x="2556000" y="18900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000"/>
                </a:solidFill>
                <a:latin typeface="Calibri"/>
              </a:rPr>
              <a:t>Collaboration entre les 2 enseign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Diagramme 11" descr=""/>
          <p:cNvPicPr/>
          <p:nvPr/>
        </p:nvPicPr>
        <p:blipFill>
          <a:blip r:embed="rId1"/>
          <a:stretch/>
        </p:blipFill>
        <p:spPr>
          <a:xfrm>
            <a:off x="895320" y="396720"/>
            <a:ext cx="7931160" cy="5864400"/>
          </a:xfrm>
          <a:prstGeom prst="rect">
            <a:avLst/>
          </a:prstGeom>
          <a:ln w="0">
            <a:noFill/>
          </a:ln>
        </p:spPr>
      </p:pic>
      <p:sp>
        <p:nvSpPr>
          <p:cNvPr id="369" name="ZoneTexte 1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7 situations professionnelles  SP / 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7 genres d’écrits sur 3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Diagramme 6" descr=""/>
          <p:cNvPicPr/>
          <p:nvPr/>
        </p:nvPicPr>
        <p:blipFill>
          <a:blip r:embed="rId1"/>
          <a:stretch/>
        </p:blipFill>
        <p:spPr>
          <a:xfrm>
            <a:off x="-12600" y="1042920"/>
            <a:ext cx="9289800" cy="5602320"/>
          </a:xfrm>
          <a:prstGeom prst="rect">
            <a:avLst/>
          </a:prstGeom>
          <a:ln w="0">
            <a:noFill/>
          </a:ln>
        </p:spPr>
      </p:pic>
      <p:sp>
        <p:nvSpPr>
          <p:cNvPr id="371" name="ZoneTexte 7"/>
          <p:cNvSpPr/>
          <p:nvPr/>
        </p:nvSpPr>
        <p:spPr>
          <a:xfrm>
            <a:off x="2916360" y="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00000"/>
                </a:solidFill>
                <a:latin typeface="Calibri"/>
              </a:rPr>
              <a:t>Pôle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lipse 8"/>
          <p:cNvSpPr/>
          <p:nvPr/>
        </p:nvSpPr>
        <p:spPr>
          <a:xfrm>
            <a:off x="25092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llipse 9"/>
          <p:cNvSpPr/>
          <p:nvPr/>
        </p:nvSpPr>
        <p:spPr>
          <a:xfrm>
            <a:off x="6407280" y="33336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Genres d’éc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Diagramme 6" descr=""/>
          <p:cNvPicPr/>
          <p:nvPr/>
        </p:nvPicPr>
        <p:blipFill>
          <a:blip r:embed="rId1"/>
          <a:stretch/>
        </p:blipFill>
        <p:spPr>
          <a:xfrm>
            <a:off x="-12600" y="1042920"/>
            <a:ext cx="9175680" cy="5602320"/>
          </a:xfrm>
          <a:prstGeom prst="rect">
            <a:avLst/>
          </a:prstGeom>
          <a:ln w="0">
            <a:noFill/>
          </a:ln>
        </p:spPr>
      </p:pic>
      <p:sp>
        <p:nvSpPr>
          <p:cNvPr id="375" name="ZoneTexte 7"/>
          <p:cNvSpPr/>
          <p:nvPr/>
        </p:nvSpPr>
        <p:spPr>
          <a:xfrm>
            <a:off x="2916360" y="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00000"/>
                </a:solidFill>
                <a:latin typeface="Calibri"/>
              </a:rPr>
              <a:t>Pôle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llipse 3"/>
          <p:cNvSpPr/>
          <p:nvPr/>
        </p:nvSpPr>
        <p:spPr>
          <a:xfrm>
            <a:off x="25092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llipse 4"/>
          <p:cNvSpPr/>
          <p:nvPr/>
        </p:nvSpPr>
        <p:spPr>
          <a:xfrm>
            <a:off x="640728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Genres d’éc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Diagramme 6" descr=""/>
          <p:cNvPicPr/>
          <p:nvPr/>
        </p:nvPicPr>
        <p:blipFill>
          <a:blip r:embed="rId1"/>
          <a:stretch/>
        </p:blipFill>
        <p:spPr>
          <a:xfrm>
            <a:off x="-12600" y="1328760"/>
            <a:ext cx="9175680" cy="402444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7"/>
          <p:cNvSpPr/>
          <p:nvPr/>
        </p:nvSpPr>
        <p:spPr>
          <a:xfrm>
            <a:off x="2916360" y="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00000"/>
                </a:solidFill>
                <a:latin typeface="Calibri"/>
              </a:rPr>
              <a:t>Suite Pôle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Ellipse 3"/>
          <p:cNvSpPr/>
          <p:nvPr/>
        </p:nvSpPr>
        <p:spPr>
          <a:xfrm>
            <a:off x="25092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Ellipse 4"/>
          <p:cNvSpPr/>
          <p:nvPr/>
        </p:nvSpPr>
        <p:spPr>
          <a:xfrm>
            <a:off x="6407280" y="476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Genres d’éc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Diagramme 6" descr=""/>
          <p:cNvPicPr/>
          <p:nvPr/>
        </p:nvPicPr>
        <p:blipFill>
          <a:blip r:embed="rId1"/>
          <a:stretch/>
        </p:blipFill>
        <p:spPr>
          <a:xfrm>
            <a:off x="-12600" y="1042920"/>
            <a:ext cx="9175680" cy="5602320"/>
          </a:xfrm>
          <a:prstGeom prst="rect">
            <a:avLst/>
          </a:prstGeom>
          <a:ln w="0">
            <a:noFill/>
          </a:ln>
        </p:spPr>
      </p:pic>
      <p:sp>
        <p:nvSpPr>
          <p:cNvPr id="383" name="ZoneTexte 7"/>
          <p:cNvSpPr/>
          <p:nvPr/>
        </p:nvSpPr>
        <p:spPr>
          <a:xfrm>
            <a:off x="2916360" y="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00000"/>
                </a:solidFill>
                <a:latin typeface="Calibri"/>
              </a:rPr>
              <a:t>Pôle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Ellipse 3"/>
          <p:cNvSpPr/>
          <p:nvPr/>
        </p:nvSpPr>
        <p:spPr>
          <a:xfrm>
            <a:off x="25092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llipse 4"/>
          <p:cNvSpPr/>
          <p:nvPr/>
        </p:nvSpPr>
        <p:spPr>
          <a:xfrm>
            <a:off x="5219640" y="333360"/>
            <a:ext cx="273708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Genres d’éc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Diagramme 6" descr=""/>
          <p:cNvPicPr/>
          <p:nvPr/>
        </p:nvPicPr>
        <p:blipFill>
          <a:blip r:embed="rId1"/>
          <a:stretch/>
        </p:blipFill>
        <p:spPr>
          <a:xfrm>
            <a:off x="-12600" y="1042920"/>
            <a:ext cx="9175680" cy="5602320"/>
          </a:xfrm>
          <a:prstGeom prst="rect">
            <a:avLst/>
          </a:prstGeom>
          <a:ln w="0">
            <a:noFill/>
          </a:ln>
        </p:spPr>
      </p:pic>
      <p:sp>
        <p:nvSpPr>
          <p:cNvPr id="387" name="ZoneTexte 7"/>
          <p:cNvSpPr/>
          <p:nvPr/>
        </p:nvSpPr>
        <p:spPr>
          <a:xfrm>
            <a:off x="2916360" y="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00000"/>
                </a:solidFill>
                <a:latin typeface="Calibri"/>
              </a:rPr>
              <a:t>Pôle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llipse 3"/>
          <p:cNvSpPr/>
          <p:nvPr/>
        </p:nvSpPr>
        <p:spPr>
          <a:xfrm>
            <a:off x="25092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llipse 4"/>
          <p:cNvSpPr/>
          <p:nvPr/>
        </p:nvSpPr>
        <p:spPr>
          <a:xfrm>
            <a:off x="640728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Genres d’éc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Diagramme 6" descr=""/>
          <p:cNvPicPr/>
          <p:nvPr/>
        </p:nvPicPr>
        <p:blipFill>
          <a:blip r:embed="rId1"/>
          <a:stretch/>
        </p:blipFill>
        <p:spPr>
          <a:xfrm>
            <a:off x="-12600" y="1042920"/>
            <a:ext cx="9175680" cy="5602320"/>
          </a:xfrm>
          <a:prstGeom prst="rect">
            <a:avLst/>
          </a:prstGeom>
          <a:ln w="0">
            <a:noFill/>
          </a:ln>
        </p:spPr>
      </p:pic>
      <p:sp>
        <p:nvSpPr>
          <p:cNvPr id="391" name="ZoneTexte 7"/>
          <p:cNvSpPr/>
          <p:nvPr/>
        </p:nvSpPr>
        <p:spPr>
          <a:xfrm>
            <a:off x="2916360" y="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00000"/>
                </a:solidFill>
                <a:latin typeface="Calibri"/>
              </a:rPr>
              <a:t>Suite Pôle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Ellipse 3"/>
          <p:cNvSpPr/>
          <p:nvPr/>
        </p:nvSpPr>
        <p:spPr>
          <a:xfrm>
            <a:off x="25092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Ellipse 4"/>
          <p:cNvSpPr/>
          <p:nvPr/>
        </p:nvSpPr>
        <p:spPr>
          <a:xfrm>
            <a:off x="6407280" y="260280"/>
            <a:ext cx="2736720" cy="647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w Cen MT"/>
              </a:rPr>
              <a:t>Genres d’éc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0" y="1341360"/>
          <a:ext cx="9144000" cy="5175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1276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049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contexte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jectifs et les finalités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cteurs concernés par le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 de l’organ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iste des tâ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g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iste des destinatai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grammation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cahier des charges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modèle de description d’un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consignes de confidential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règles comportementales à adopter envers les différents acteurs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émarche de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types de proj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suivi administratif de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exploitation d’informations concernant un projet, à l’aide d’un P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e descriptif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e tri et la hiérarchisation des informations, les titres et les sous-ti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’énumé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’expression d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es repères et les marques du tem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es temps et modes des verbes : le fut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et documents à complé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chier destinataires à cré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et technicité des docu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terdépendance des proj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e en ligne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odification des ac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3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incomp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dresses erron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ichier trop volumineux pour être diffu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ts de fichier incompat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jet non stabili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descriptif du projet, mis en forme dans le respect du modèle, est diffusé aux acteurs concerné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aliser un descriptif de projet à partir d’éléments composites, adapté à différents acteu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é du descriptif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1"/>
          <p:cNvSpPr/>
          <p:nvPr/>
        </p:nvSpPr>
        <p:spPr>
          <a:xfrm>
            <a:off x="50040" y="266760"/>
            <a:ext cx="905328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150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  <a:ea typeface="Cambria"/>
              </a:rPr>
              <a:t>Pôle 4 – Gestion administrative des proj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0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lasse 4.1. Suivi op</a:t>
            </a: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ationnel du projet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1.1. Mise en forme et diffusion du descriptif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0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46:28Z</dcterms:created>
  <dc:creator>AM GIacometti</dc:creator>
  <dc:description/>
  <dc:language>en-US</dc:language>
  <cp:lastModifiedBy>Anne-Marie Giacometti</cp:lastModifiedBy>
  <dcterms:modified xsi:type="dcterms:W3CDTF">2012-07-09T17:25:55Z</dcterms:modified>
  <cp:revision>45</cp:revision>
  <dc:subject/>
  <dc:title>17 SP et atelier rédactionn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escription0">
    <vt:lpwstr>Ce powerpoint présente les 17 situations professionnelles concernées par la mise en place d'ateliers rédactionnels (travail collaboratif avec le PLP de Lettres).</vt:lpwstr>
  </property>
</Properties>
</file>